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wmf" ContentType="image/x-wmf"/>
  <Override PartName="/ppt/media/image5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19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1.wmf" ContentType="image/x-wmf"/>
  <Override PartName="/ppt/media/image22.wmf" ContentType="image/x-wmf"/>
  <Override PartName="/ppt/media/image2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15E-19F1-40CA-9C55-9DD40830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525-CF5E-4AF8-AC51-4474EF0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B99-C8D8-4010-855B-91C0E4C5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E4B-02AF-4F48-A032-39A9BBD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E9C-43D0-4645-A23D-341B5E7B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789-F9F8-4A49-9CD7-F334A22E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0BC-05A1-45D9-B328-E77B543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379-E5D3-4EA9-AF40-0C63E6B7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769-9167-4612-9151-1057E4A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5D6-DC17-4AF7-8FCB-B93DE00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EC2-B576-4FB1-87A7-F495341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3A6-4B76-4603-AAFE-D24F92F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B5E6-8D73-4F15-B1CB-08706144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45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8560" y="285264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 rot="5400000">
            <a:off x="5053320" y="3091680"/>
            <a:ext cx="6453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цо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20040827_29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9640" y="33336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ая ассамбле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 октября 2008 г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Иерусалим2"/>
          <p:cNvPicPr/>
          <p:nvPr/>
        </p:nvPicPr>
        <p:blipFill>
          <a:blip r:embed="rId2"/>
          <a:stretch/>
        </p:blipFill>
        <p:spPr>
          <a:xfrm>
            <a:off x="0" y="981000"/>
            <a:ext cx="4827600" cy="619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Иерусалим"/>
          <p:cNvPicPr/>
          <p:nvPr/>
        </p:nvPicPr>
        <p:blipFill>
          <a:blip r:embed="rId3"/>
          <a:stretch/>
        </p:blipFill>
        <p:spPr>
          <a:xfrm>
            <a:off x="5364000" y="1413000"/>
            <a:ext cx="3429000" cy="481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692360" y="189000"/>
            <a:ext cx="6406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ый Иерусал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616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5157720"/>
            <a:ext cx="374184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стринский рай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15000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19640" y="5084640"/>
            <a:ext cx="4105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динцов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86000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700280"/>
          <a:ext cx="4667400" cy="26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6674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43280" y="1700280"/>
          <a:ext cx="46674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00280"/>
                    <a:ext cx="46674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2050920" y="404640"/>
            <a:ext cx="5113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е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istra04"/>
          <p:cNvPicPr/>
          <p:nvPr/>
        </p:nvPicPr>
        <p:blipFill>
          <a:blip r:embed="rId5"/>
          <a:stretch/>
        </p:blipFill>
        <p:spPr>
          <a:xfrm>
            <a:off x="250920" y="260280"/>
            <a:ext cx="103644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odincov1"/>
          <p:cNvPicPr/>
          <p:nvPr/>
        </p:nvPicPr>
        <p:blipFill>
          <a:blip r:embed="rId6"/>
          <a:stretch/>
        </p:blipFill>
        <p:spPr>
          <a:xfrm>
            <a:off x="7885080" y="260280"/>
            <a:ext cx="1055880" cy="129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8920" y="1700280"/>
            <a:ext cx="43275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стрин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)115000:100=1150(чел) 1% все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)1150 •47=54050(чел) живут в городах Истр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твет: 54050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3280" y="1699920"/>
            <a:ext cx="43164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цов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)286000:100=2 860(чел) 1% все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)2860 •76=217 360(чел) живут в городах Одинцо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твет: 217 360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11280" y="40464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5" descr="istra04"/>
          <p:cNvPicPr/>
          <p:nvPr/>
        </p:nvPicPr>
        <p:blipFill>
          <a:blip r:embed="rId1"/>
          <a:stretch/>
        </p:blipFill>
        <p:spPr>
          <a:xfrm>
            <a:off x="539640" y="189000"/>
            <a:ext cx="1177920" cy="147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dincov1"/>
          <p:cNvPicPr/>
          <p:nvPr/>
        </p:nvPicPr>
        <p:blipFill>
          <a:blip r:embed="rId2"/>
          <a:stretch/>
        </p:blipFill>
        <p:spPr>
          <a:xfrm>
            <a:off x="7380360" y="189000"/>
            <a:ext cx="1209600" cy="148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71280" y="3034800"/>
            <a:ext cx="72658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авным притоком Истры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являетс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ека Малая Истра. Ее протяженность 47,46 км, что составляет 42% от длины реки Истра. Найти протяженность реки Ист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2050920" y="836640"/>
            <a:ext cx="52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1763640" y="2276640"/>
            <a:ext cx="1933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5" descr="istra04"/>
          <p:cNvPicPr/>
          <p:nvPr/>
        </p:nvPicPr>
        <p:blipFill>
          <a:blip r:embed="rId1"/>
          <a:stretch/>
        </p:blipFill>
        <p:spPr>
          <a:xfrm>
            <a:off x="324000" y="333360"/>
            <a:ext cx="1266840" cy="158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1880" y="2045880"/>
            <a:ext cx="81597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стра - ?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алая Истра - 47,46 км - 42%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) 47,46 : 42 = 1,13(км) 1% длины 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) 1,13 • 100 = 113 (км) длина 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вет: протяженность реки Истра 113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556000" y="260280"/>
            <a:ext cx="431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539640" y="1341360"/>
            <a:ext cx="3219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запись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6"/>
          <p:cNvSpPr/>
          <p:nvPr/>
        </p:nvSpPr>
        <p:spPr>
          <a:xfrm rot="16200000">
            <a:off x="6047640" y="2169360"/>
            <a:ext cx="720720" cy="503280"/>
          </a:xfrm>
          <a:prstGeom prst="pie">
            <a:avLst/>
          </a:prstGeom>
          <a:solidFill>
            <a:srgbClr val="3333cc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684360" y="314172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istra04"/>
          <p:cNvPicPr/>
          <p:nvPr/>
        </p:nvPicPr>
        <p:blipFill>
          <a:blip r:embed="rId1"/>
          <a:stretch/>
        </p:blipFill>
        <p:spPr>
          <a:xfrm>
            <a:off x="179280" y="189000"/>
            <a:ext cx="785880" cy="1009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67920"/>
            <a:ext cx="7224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040" y="1906560"/>
            <a:ext cx="5589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1835280" y="189000"/>
            <a:ext cx="518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stra04"/>
          <p:cNvPicPr/>
          <p:nvPr/>
        </p:nvPicPr>
        <p:blipFill>
          <a:blip r:embed="rId2"/>
          <a:stretch/>
        </p:blipFill>
        <p:spPr>
          <a:xfrm>
            <a:off x="179280" y="189000"/>
            <a:ext cx="97956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5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733320"/>
            <a:ext cx="727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459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971640" y="549360"/>
            <a:ext cx="6870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733320"/>
            <a:ext cx="727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8459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точниками питания реки Истра являются: талые снеговые воды – 60 %, грунтовые – от 21 до 27 %, дожди – от 13 до 19 %. Построить круговую диаграмму источников питания реки Истра, вычислив средние значения всех ее источник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1763640" y="1989000"/>
            <a:ext cx="193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971640" y="549360"/>
            <a:ext cx="6870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stra04"/>
          <p:cNvPicPr/>
          <p:nvPr/>
        </p:nvPicPr>
        <p:blipFill>
          <a:blip r:embed="rId1"/>
          <a:stretch/>
        </p:blipFill>
        <p:spPr>
          <a:xfrm>
            <a:off x="324000" y="260280"/>
            <a:ext cx="109368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95640" y="476280"/>
            <a:ext cx="52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270828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Талые воды – 60%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Грунтовые воды – 21-27%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Дождевые воды – 13-19%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остроить круговую диа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istra04"/>
          <p:cNvPicPr/>
          <p:nvPr/>
        </p:nvPicPr>
        <p:blipFill>
          <a:blip r:embed="rId1"/>
          <a:stretch/>
        </p:blipFill>
        <p:spPr>
          <a:xfrm>
            <a:off x="250920" y="189000"/>
            <a:ext cx="920520" cy="1152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95640" y="404640"/>
            <a:ext cx="5256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000" y="206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1+27):2=24(%) среднее значение доли грунтов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3+19):2=16(%) среднее значение доли дождев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4 + 16 + 60 = 100(%)все источник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60:100 = 3,6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)центральный угол, соответствующий 1% источников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,6 • 24 =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)центральный угол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ответствующий грунтовым в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,6 • 16 =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)центральный угол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ответствующий дождевым в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195640" y="404640"/>
            <a:ext cx="504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547640" y="1341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684360" y="1557360"/>
            <a:ext cx="187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5" descr="istra04"/>
          <p:cNvPicPr/>
          <p:nvPr/>
        </p:nvPicPr>
        <p:blipFill>
          <a:blip r:embed="rId1"/>
          <a:stretch/>
        </p:blipFill>
        <p:spPr>
          <a:xfrm>
            <a:off x="250920" y="189000"/>
            <a:ext cx="863640" cy="107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спользование информационных технологий при решении краеведческих задач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2997360"/>
            <a:ext cx="784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Arial"/>
              </a:rPr>
              <a:t>Бакланова Елена Александровна, учитель мате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Arial"/>
              </a:rPr>
              <a:t>МОУ «Лицей» г.Дедов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rb01"/>
          <p:cNvPicPr/>
          <p:nvPr/>
        </p:nvPicPr>
        <p:blipFill>
          <a:blip r:embed="rId1"/>
          <a:stretch/>
        </p:blipFill>
        <p:spPr>
          <a:xfrm>
            <a:off x="6443640" y="4005360"/>
            <a:ext cx="24782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2411280" y="47628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а 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1" name="Object 7"/>
          <p:cNvGraphicFramePr/>
          <p:nvPr/>
        </p:nvGraphicFramePr>
        <p:xfrm>
          <a:off x="468360" y="1989000"/>
          <a:ext cx="805824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0582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5" descr="istra04"/>
          <p:cNvPicPr/>
          <p:nvPr/>
        </p:nvPicPr>
        <p:blipFill>
          <a:blip r:embed="rId3"/>
          <a:stretch/>
        </p:blipFill>
        <p:spPr>
          <a:xfrm>
            <a:off x="179280" y="260280"/>
            <a:ext cx="922320" cy="11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558972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я площадь  129 896 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32000" y="551664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я площадь 128 963 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0" y="2060640"/>
          <a:ext cx="4968720" cy="33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496872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4788000" y="2060640"/>
          <a:ext cx="4356000" cy="338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4356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WordArt 4"/>
          <p:cNvSpPr txBox="1"/>
          <p:nvPr/>
        </p:nvSpPr>
        <p:spPr>
          <a:xfrm>
            <a:off x="46836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ительная характерист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ределения земельного фон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3419640" y="2349360"/>
          <a:ext cx="6095880" cy="406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34936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24000" y="5824440"/>
            <a:ext cx="19620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istra04"/>
          <p:cNvPicPr/>
          <p:nvPr/>
        </p:nvPicPr>
        <p:blipFill>
          <a:blip r:embed="rId7"/>
          <a:stretch/>
        </p:blipFill>
        <p:spPr>
          <a:xfrm>
            <a:off x="0" y="1557360"/>
            <a:ext cx="633240" cy="79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odincov1"/>
          <p:cNvPicPr/>
          <p:nvPr/>
        </p:nvPicPr>
        <p:blipFill>
          <a:blip r:embed="rId8"/>
          <a:stretch/>
        </p:blipFill>
        <p:spPr>
          <a:xfrm>
            <a:off x="8172360" y="1628640"/>
            <a:ext cx="703440" cy="86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449280" cy="44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Изображение1 093"/>
          <p:cNvPicPr/>
          <p:nvPr/>
        </p:nvPicPr>
        <p:blipFill>
          <a:blip r:embed="rId2"/>
          <a:stretch/>
        </p:blipFill>
        <p:spPr>
          <a:xfrm>
            <a:off x="2916360" y="2185920"/>
            <a:ext cx="6227640" cy="46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1" name="Picture 7" descr="591284"/>
          <p:cNvPicPr/>
          <p:nvPr/>
        </p:nvPicPr>
        <p:blipFill>
          <a:blip r:embed="rId4"/>
          <a:stretch/>
        </p:blipFill>
        <p:spPr>
          <a:xfrm>
            <a:off x="0" y="3357720"/>
            <a:ext cx="3111480" cy="414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1276"/>
          <p:cNvPicPr/>
          <p:nvPr/>
        </p:nvPicPr>
        <p:blipFill>
          <a:blip r:embed="rId5"/>
          <a:stretch/>
        </p:blipFill>
        <p:spPr>
          <a:xfrm>
            <a:off x="-1260360" y="0"/>
            <a:ext cx="6157800" cy="410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1" dur="183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2565360"/>
            <a:ext cx="8856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Территория района - около 129 900 га, из них 49% занимают леса, среди которых 37 554,09 га – хвойные насаждения. Какую площадь занимают леса, какую часть леса составляют хвойные насажд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1547640" y="1268280"/>
            <a:ext cx="41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7280" y="189000"/>
            <a:ext cx="640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ринский рай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4076640"/>
            <a:ext cx="8352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 900 : 100= 1 299(га) 1% площади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99 • 49 = 63 651 (га) площадь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 554,09 : 63 651 =0,59 = 59% (территории леса) занимают хвойные нас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63 651га; 59 % территории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го – 129 900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са – ? га – 49% о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войные леса-37 554,09 га - ?%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1979640" y="260280"/>
            <a:ext cx="6553080" cy="86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ринский рай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468360" y="1341360"/>
            <a:ext cx="3095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запись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5"/>
          <p:cNvSpPr/>
          <p:nvPr/>
        </p:nvSpPr>
        <p:spPr>
          <a:xfrm rot="16200000">
            <a:off x="3805920" y="2178720"/>
            <a:ext cx="520560" cy="430200"/>
          </a:xfrm>
          <a:prstGeom prst="pie">
            <a:avLst/>
          </a:prstGeom>
          <a:solidFill>
            <a:srgbClr val="008000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211640" y="5084640"/>
            <a:ext cx="852480" cy="733680"/>
          </a:xfrm>
          <a:prstGeom prst="pie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7451640" y="4149720"/>
            <a:ext cx="852480" cy="733320"/>
          </a:xfrm>
          <a:prstGeom prst="pie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 rot="16200000">
            <a:off x="6255360" y="2753280"/>
            <a:ext cx="520560" cy="430200"/>
          </a:xfrm>
          <a:prstGeom prst="pie">
            <a:avLst/>
          </a:prstGeom>
          <a:solidFill>
            <a:srgbClr val="008000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stra04"/>
          <p:cNvPicPr/>
          <p:nvPr/>
        </p:nvPicPr>
        <p:blipFill>
          <a:blip r:embed="rId1"/>
          <a:stretch/>
        </p:blipFill>
        <p:spPr>
          <a:xfrm>
            <a:off x="324000" y="189000"/>
            <a:ext cx="920520" cy="1150920"/>
          </a:xfrm>
          <a:prstGeom prst="rect">
            <a:avLst/>
          </a:prstGeom>
          <a:ln w="0">
            <a:noFill/>
          </a:ln>
        </p:spPr>
      </p:pic>
      <p:sp>
        <p:nvSpPr>
          <p:cNvPr id="187" name="WordArt 11"/>
          <p:cNvSpPr txBox="1"/>
          <p:nvPr/>
        </p:nvSpPr>
        <p:spPr>
          <a:xfrm>
            <a:off x="539640" y="3429000"/>
            <a:ext cx="187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4869000"/>
            <a:ext cx="889308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ходе урока повт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процен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решения основных задач на процен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диаграмм и способы их по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или информацию о своем районе и о сосед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4360" y="260280"/>
            <a:ext cx="712944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оги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50"/>
                            </p:stCondLst>
                            <p:childTnLst>
                              <p:par>
                                <p:cTn id="6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900"/>
                            </p:stCondLst>
                            <p:childTnLst>
                              <p:par>
                                <p:cTn id="6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250"/>
                            </p:stCondLst>
                            <p:childTnLst>
                              <p:par>
                                <p:cTn id="6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835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197000"/>
            <a:ext cx="71294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48720" y="259920"/>
            <a:ext cx="9367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5075280" y="836640"/>
            <a:ext cx="406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аграмм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826920" y="1285920"/>
          <a:ext cx="7704360" cy="55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85920"/>
                    <a:ext cx="770436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250920" y="333360"/>
            <a:ext cx="8613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ичество школ Московской обла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816440" y="2533680"/>
          <a:ext cx="3703680" cy="265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6440" y="2533680"/>
                    <a:ext cx="370368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2484360"/>
          <a:ext cx="4040280" cy="27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84360"/>
                    <a:ext cx="40402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539640" y="476280"/>
            <a:ext cx="8077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овательные учрежд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560" y="285264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1432080" cy="143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1586160" cy="14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1798920" cy="121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3419640" y="5084640"/>
            <a:ext cx="129672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5"/>
          <a:stretch/>
        </p:blipFill>
        <p:spPr>
          <a:xfrm>
            <a:off x="395280" y="5013360"/>
            <a:ext cx="1511280" cy="128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1187280" y="3500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64328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0" y="5084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916360" y="51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012000" y="5157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692360" y="1844640"/>
            <a:ext cx="71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843280" y="3645000"/>
            <a:ext cx="1295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П – 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И – 6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К –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835280" y="5300640"/>
            <a:ext cx="122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А –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В –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Т –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6804000" y="3645000"/>
            <a:ext cx="1258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С –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Д –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Г – 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2556000" y="436572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716360" y="5157720"/>
            <a:ext cx="1584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Л – 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Р –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Ф – 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7885080" y="5229360"/>
            <a:ext cx="1657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А – 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О – 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И – 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900000" y="1844640"/>
            <a:ext cx="774072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предели по каждому рисунку, какой примерно процент фигуры закрашен, и выбери наиболее подходящий ответ из трех данных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. Прочитай полученное слово и объясни его смыс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6"/>
          <p:cNvSpPr txBox="1"/>
          <p:nvPr/>
        </p:nvSpPr>
        <p:spPr>
          <a:xfrm>
            <a:off x="2340000" y="549360"/>
            <a:ext cx="5319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1197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2120" y="1646280"/>
            <a:ext cx="81676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476360" y="2133720"/>
            <a:ext cx="64785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396720" y="0"/>
            <a:ext cx="7019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 rot="5400000">
            <a:off x="4656960" y="2551680"/>
            <a:ext cx="6453000" cy="17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цо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7" descr="istra04"/>
          <p:cNvPicPr/>
          <p:nvPr/>
        </p:nvPicPr>
        <p:blipFill>
          <a:blip r:embed="rId2"/>
          <a:stretch/>
        </p:blipFill>
        <p:spPr>
          <a:xfrm>
            <a:off x="2916360" y="2852640"/>
            <a:ext cx="28728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odincov1"/>
          <p:cNvPicPr/>
          <p:nvPr/>
        </p:nvPicPr>
        <p:blipFill>
          <a:blip r:embed="rId3"/>
          <a:stretch/>
        </p:blipFill>
        <p:spPr>
          <a:xfrm>
            <a:off x="3276720" y="3789360"/>
            <a:ext cx="293400" cy="36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oscow"/>
          <p:cNvPicPr/>
          <p:nvPr/>
        </p:nvPicPr>
        <p:blipFill>
          <a:blip r:embed="rId1"/>
          <a:stretch/>
        </p:blipFill>
        <p:spPr>
          <a:xfrm>
            <a:off x="3203640" y="476280"/>
            <a:ext cx="2921040" cy="36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stra04"/>
          <p:cNvPicPr/>
          <p:nvPr/>
        </p:nvPicPr>
        <p:blipFill>
          <a:blip r:embed="rId2"/>
          <a:stretch/>
        </p:blipFill>
        <p:spPr>
          <a:xfrm>
            <a:off x="539640" y="3573360"/>
            <a:ext cx="1984320" cy="248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odincov1"/>
          <p:cNvPicPr/>
          <p:nvPr/>
        </p:nvPicPr>
        <p:blipFill>
          <a:blip r:embed="rId3"/>
          <a:stretch/>
        </p:blipFill>
        <p:spPr>
          <a:xfrm>
            <a:off x="6659640" y="3429000"/>
            <a:ext cx="2022480" cy="2482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6:32:26Z</dcterms:created>
  <dc:creator>пользователь</dc:creator>
  <dc:description/>
  <dc:language>en-US</dc:language>
  <cp:lastModifiedBy>User</cp:lastModifiedBy>
  <dcterms:modified xsi:type="dcterms:W3CDTF">2009-01-05T17:05:08Z</dcterms:modified>
  <cp:revision>148</cp:revision>
  <dc:subject/>
  <dc:title>Эстафета</dc:title>
</cp:coreProperties>
</file>